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EBE-FA82-47F2-B10B-28A90760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65A-2349-4A1A-ADDE-5E6D977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E70-7D1A-48E5-ABAD-7CB4BE08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0EE-4ED9-4277-A122-7248D196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CA9-93C2-4E5B-A4D8-9527C21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FDC-79FE-4B4D-9B97-19B9BF78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269B-4094-476A-BCCC-64CBF69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38B-7D67-4345-8F18-5826C3E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8C7-4B9F-4830-96ED-21135C83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AF51-B656-4FEC-A64B-08B68CCD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6BD-F28C-45C0-B12D-A310B17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C25-3210-425C-B03C-BBD44BF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664-AD05-4B5E-9AA6-262B92A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308-B3DC-47B8-A992-0D27E1D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4908-67D7-4E3B-885E-D47B5A3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F675-9A8F-4D25-AA98-6452EA3E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4826-8C68-4BE5-9DE2-D4701E90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BE3A6-658B-4333-997F-6DF40345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A73CC-699A-4FB8-8ED0-C5CB1E6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150D7-2D54-4E42-823B-57D0D6BD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B9103-CA03-4910-A7DC-0294AECB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0D645-5079-4DAC-A828-30049FC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A33-E2F8-45AC-9A4E-9D807B99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E5E98-98D1-47CB-BC55-95B3A3A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5A4DE-81CE-4678-A7BC-F0B9634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7FF11-4ED5-410D-92B5-202A266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74559-3E27-4A31-A2BB-93271E6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6B3F-4C80-40D7-A056-4ED9F4D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D4DE3-3DD9-47B7-9C78-606E42AA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29CCD-0236-4567-A769-FC53412D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6C1-2859-43AF-AE8B-20CF4277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ADC-DA69-4A9B-971B-3D58FB2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4B5-C909-4D1E-B2BE-ADBDA78A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981-C444-4745-81F0-2B4BB17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341-5433-41CC-A0C1-3020A7A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D3F-EC3A-47F2-8650-32F3146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574-2D1E-4B92-A15A-98806A36A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F9B7-29E9-449C-8AE5-6D4C06C12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7B03-155C-4BF7-8EBA-A9505BECB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33360"/>
            <a:ext cx="805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rbeiten bringt Brot - Faulenzen Hungersno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in Erfolg ohne Mühe und Arbei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uf dem Ofen sitzend wird man nicht General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r den Fuchs fangen will, muss mit den Hühnern aufsteh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chtsgrundlagen für Schüler-Jobs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aut Gesetz zum Schutze der arbeitenden Jugend dürfen Kinder unter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14 Jahr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gar nicht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arbei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ugendliche, die mindestens 15 aber noch nicht 18 Jahre alt sind, können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vier Wochen pro Jahr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in den Ferien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tägliche Arbeitszeit darf acht Stunden nicht überschreiten (nicht mehr als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40 Stunden in der Woch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30 Minuten Paus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stehen den Jungendlichen zu, wenn sie mindestens viereinhalb bis sechs Stunden am Tag arbeiten und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60 Minu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, wenn sie mehr als sechs Stunden am Tag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523880" y="907920"/>
          <a:ext cx="7008480" cy="4993920"/>
        </p:xfrm>
        <a:graphic>
          <a:graphicData uri="http://schemas.openxmlformats.org/drawingml/2006/table">
            <a:tbl>
              <a:tblPr/>
              <a:tblGrid>
                <a:gridCol w="1931040"/>
                <a:gridCol w="2741040"/>
                <a:gridCol w="2336400"/>
              </a:tblGrid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042920" y="907920"/>
          <a:ext cx="7635960" cy="499428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46116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Wochen pro Jahr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inuten oder 60 Minuten Pause am Tag 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r als 40 Stunden pro Woche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620640"/>
            <a:ext cx="76327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1.Ich möchte in den Ferien ………… arbeiten (job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2.Ich habe  im Netz eine Anzeige gefunden. Man sucht …………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3.Die Arbeit …….. mir viel Spa</a:t>
            </a:r>
            <a:r>
              <a:rPr b="1" lang="el-GR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4.Ich habe einmal………….. ausge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5. Ich w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ürde gern Kontakte ……. fi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 ich einen Job in den Ferien annehmen?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rgumente pro und con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105264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413000"/>
          <a:ext cx="7772400" cy="2811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785880" y="1000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Ferienjob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pic>
        <p:nvPicPr>
          <p:cNvPr id="125" name="Picture 4" descr="21_fr_ferienjob"/>
          <p:cNvPicPr/>
          <p:nvPr/>
        </p:nvPicPr>
        <p:blipFill>
          <a:blip r:embed="rId1"/>
          <a:stretch/>
        </p:blipFill>
        <p:spPr>
          <a:xfrm>
            <a:off x="3049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erienjob"/>
          <p:cNvPicPr/>
          <p:nvPr/>
        </p:nvPicPr>
        <p:blipFill>
          <a:blip r:embed="rId2"/>
          <a:stretch/>
        </p:blipFill>
        <p:spPr>
          <a:xfrm>
            <a:off x="5410080" y="396252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Arbeit bedeutet atmen für mich;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wenn ich nicht arbeiten kann,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kann ich nicht atmen!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  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P</a:t>
            </a: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Picass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atmen -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b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457200"/>
            <a:ext cx="7467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Ferienjob bedeutet einen Job in den Ferie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Aber die Jugendlichen arbeiten nicht nur in den Ferien, sondern auch während des Lernens oder Studiums. Sie machen das gewöhnlich nach den Stunden in den Freizeit oder am Wochenend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zeitungsjunge"/>
          <p:cNvPicPr/>
          <p:nvPr/>
        </p:nvPicPr>
        <p:blipFill>
          <a:blip r:embed="rId1"/>
          <a:stretch/>
        </p:blipFill>
        <p:spPr>
          <a:xfrm>
            <a:off x="5943600" y="4343400"/>
            <a:ext cx="2827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5080" y="1268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en Eltern zu hel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aufzubess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zu verdi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Spaß zu b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ss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Klamott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st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hr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n und Geträ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m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657600" y="2286000"/>
            <a:ext cx="1676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 u="sng">
                <a:solidFill>
                  <a:srgbClr val="0000ff"/>
                </a:solidFill>
                <a:uFillTx/>
                <a:latin typeface="Times New Roman"/>
              </a:rPr>
              <a:t>JOB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38080" y="1447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äu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2743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24080" y="685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41497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30072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sebeg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05720" y="175248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ief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05720" y="30481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pfleg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2124000" y="3429000"/>
            <a:ext cx="1609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26668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57200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5257800" y="342900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2133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 flipH="1" flipV="1">
            <a:off x="2971440" y="1905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4100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0" descr="neben_oder_ferienjob_annehm"/>
          <p:cNvPicPr/>
          <p:nvPr/>
        </p:nvPicPr>
        <p:blipFill>
          <a:blip r:embed="rId1"/>
          <a:stretch/>
        </p:blipFill>
        <p:spPr>
          <a:xfrm>
            <a:off x="5791320" y="152280"/>
            <a:ext cx="33526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70836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s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5:43:58Z</dcterms:created>
  <dc:creator>Ребенко Н. А.</dc:creator>
  <dc:description/>
  <dc:language>en-US</dc:language>
  <cp:lastModifiedBy>ДСК</cp:lastModifiedBy>
  <dcterms:modified xsi:type="dcterms:W3CDTF">2014-02-12T19:56:47Z</dcterms:modified>
  <cp:revision>24</cp:revision>
  <dc:subject/>
  <dc:title>Презентация PowerPoint</dc:title>
</cp:coreProperties>
</file>